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Con%20Te%20Partiro-%20Richard%20Clayderman.wav" ContentType="audio/x-wav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5A2078-CBC0-4593-8DD7-540F3B16D6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4BF468-1C99-4706-9E00-576B156050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0BCF46-F0B6-4387-901F-354DE7204B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8FA0B4-8BF8-4A5C-86E7-6559D42BC8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FC1E94-C659-4651-8DDE-128D87F979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FC3720-D2AD-4700-AE3B-41E0D502D7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59C794-E5F9-4B19-B8BF-DD6FB18056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01E650-DD3E-46F6-A51C-67D36D7FAE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330F6B-1CE5-4A6C-9575-3260062AB0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F8D6A0-431A-4FB2-B0D5-E56C29F0AE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0F6E6A-F93C-49D4-9781-B0EC589AEF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DD2-E0A3-4F37-8288-5EA68B8D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897-A8B0-4120-97A8-13A22987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699-A9FC-4A5F-A462-B164714D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D70-DDC2-458E-B068-18E473ED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1FDE-B656-4902-85ED-0DDD49BF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0C5C-E472-4EF2-B1CD-FC709D1E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1DCA-04C3-4DF2-8DB3-85BC6D88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47F6-8B54-432F-8428-7197395E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3B7A-319E-436D-9B89-A9EC76A4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DEC5-6ABA-407E-B576-67524B1E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778D-D32C-4E8B-8BC6-18B73B78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006-6657-484D-8D3F-37EB2BDA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BEE9-BDF3-4973-8BD7-8DA3915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3FB4-DA66-4054-BF12-A579034C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BB8E-1D0F-45B3-AF63-773EDFCD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E463-E938-454C-BCEA-A36803F4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5064-5F9C-474E-B8EF-464326B5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F6C-7DB4-4825-B11F-8237A929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30E-926D-4B11-B2BC-CCE45261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D03-A00F-401C-A210-D9AF4F75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09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FF6-1407-40DC-AC8B-F4431EB6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071-81E9-466E-BDD6-060E1605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3C8-5ADB-43ED-8900-18D441E6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522-57BF-4D00-A4A3-856E5E64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8410680" y="6480"/>
            <a:ext cx="17541720" cy="13689000"/>
            <a:chOff x="-8410680" y="6480"/>
            <a:chExt cx="17541720" cy="13689000"/>
          </a:xfrm>
        </p:grpSpPr>
        <p:sp>
          <p:nvSpPr>
            <p:cNvPr id="1" name=""/>
            <p:cNvSpPr txBox="1"/>
            <p:nvPr/>
          </p:nvSpPr>
          <p:spPr>
            <a:xfrm>
              <a:off x="5386680" y="1590480"/>
              <a:ext cx="3744360" cy="52599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8410680" y="6480"/>
              <a:ext cx="16819920" cy="13689000"/>
            </a:xfrm>
            <a:prstGeom prst="pie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C3F136-489F-46D6-A795-5457C4C415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-7761240" y="1452600"/>
            <a:ext cx="16903440" cy="10783800"/>
            <a:chOff x="-7761240" y="1452600"/>
            <a:chExt cx="16903440" cy="10783800"/>
          </a:xfrm>
        </p:grpSpPr>
        <p:sp>
          <p:nvSpPr>
            <p:cNvPr id="45" name=""/>
            <p:cNvSpPr txBox="1"/>
            <p:nvPr/>
          </p:nvSpPr>
          <p:spPr>
            <a:xfrm>
              <a:off x="3270600" y="2696760"/>
              <a:ext cx="5871600" cy="41475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utoShape 3"/>
            <p:cNvSpPr/>
            <p:nvPr/>
          </p:nvSpPr>
          <p:spPr>
            <a:xfrm>
              <a:off x="-7761240" y="1452600"/>
              <a:ext cx="13451040" cy="10783800"/>
            </a:xfrm>
            <a:prstGeom prst="pie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7124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83CC5E-CA86-40D0-B5F4-3119D15212F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audio" Target="../media/Con%20Te%20Partiro-%20Richard%20Clayderman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2.png"/><Relationship Id="rId7" Type="http://schemas.openxmlformats.org/officeDocument/2006/relationships/image" Target="../media/image1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7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380880" y="114480"/>
            <a:ext cx="8763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 Black"/>
                <a:cs typeface="Lucida Sans Unicode"/>
              </a:rPr>
              <a:t>كانت هناك أربعة شموع موقدة و المحيط حولها هادئ حتى أننا يمكن أن نسمع حوار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7"/>
          <a:stretch/>
        </p:blipFill>
        <p:spPr>
          <a:xfrm>
            <a:off x="662472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1488960" y="1619280"/>
            <a:ext cx="4091040" cy="360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3959280" y="179280"/>
            <a:ext cx="521964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هذة الشمعة أٌشعلت الثالث من أكتوبر </a:t>
            </a: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هناك شخص لديه الرجاء و الحب و الايمان و يريد السلام يرسلها لك الان فأرسلها أنت أيضا لأصدقائ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Times New Roman"/>
              </a:rPr>
              <a:t>فعليك أن تتمنى أن لا تنطفئ شمة الرجاء و الحب و الايمان و السلام و الصداقة فى حيات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60360" y="5400720"/>
            <a:ext cx="450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79280" y="3419640"/>
            <a:ext cx="3240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لا تنطفى الشمعة حين تنير أخرى</a:t>
            </a:r>
            <a:r>
              <a:rPr b="1" lang="ar-EG" sz="2800" spc="-1" strike="noStrike">
                <a:solidFill>
                  <a:srgbClr val="ffffff"/>
                </a:solidFill>
                <a:latin typeface="Times New Roman"/>
              </a:rPr>
              <a:t> 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80000" y="5657760"/>
            <a:ext cx="360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Times New Roman"/>
              </a:rPr>
              <a:t>الله يبارك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7"/>
          <p:cNvSpPr/>
          <p:nvPr/>
        </p:nvSpPr>
        <p:spPr>
          <a:xfrm>
            <a:off x="179280" y="1079640"/>
            <a:ext cx="288000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7"/>
          <a:stretch/>
        </p:blipFill>
        <p:spPr>
          <a:xfrm>
            <a:off x="6642000" y="2357280"/>
            <a:ext cx="2340000" cy="12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179280" y="0"/>
            <a:ext cx="873612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Arial"/>
              </a:rPr>
              <a:t>قالت الاولى</a:t>
            </a:r>
            <a:r>
              <a:rPr b="0" lang="ar-EG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ar-EG" sz="4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Arial"/>
              </a:rPr>
              <a:t>أنا شمعة السلام و برغم نورى فالناس لا تعرف أن تقتنى السلام و تجهلنى موقدة دائما فبدأت شعلتها تخفت تدريجيا حتى أنطفئت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....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5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6"/>
          <a:stretch/>
        </p:blipFill>
        <p:spPr>
          <a:xfrm>
            <a:off x="6659640" y="2340000"/>
            <a:ext cx="2212920" cy="12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7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/>
          <p:cNvSpPr/>
          <p:nvPr/>
        </p:nvSpPr>
        <p:spPr>
          <a:xfrm>
            <a:off x="216072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88920" y="69840"/>
            <a:ext cx="891072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...................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قالت الثانية أنا أُدعى الايمان و لكنى غير ضرورى فى حياة أحد فالبشر لا يريدون أن يعرفوا شئ عن الله لذلك لا فائدة من نورى لماذا أظل موقدة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جاء ريح فطفأ شعلتها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3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6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7"/>
          <p:cNvSpPr/>
          <p:nvPr/>
        </p:nvSpPr>
        <p:spPr>
          <a:xfrm>
            <a:off x="4319640" y="1079640"/>
            <a:ext cx="2879640" cy="2519280"/>
          </a:xfrm>
          <a:prstGeom prst="roundRect">
            <a:avLst>
              <a:gd name="adj" fmla="val 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0" y="214200"/>
            <a:ext cx="914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فى حزن شديد و بصوت منخفض قالت الشمعة الثالثة أنا الحب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ليس لدى القوة لأظل مشتعلة فالبشر لا يتركوننى فهم لا يبحثون سوى عن أن ينظر أحدهم نفسه و ينسوا من هم حولهم</a:t>
            </a: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600" spc="-1" strike="noStrike">
                <a:solidFill>
                  <a:srgbClr val="ffffcc"/>
                </a:solidFill>
                <a:latin typeface="Arial"/>
              </a:rPr>
              <a:t>و أنطفأت هى الاخر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7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"/>
          <p:cNvSpPr/>
          <p:nvPr/>
        </p:nvSpPr>
        <p:spPr>
          <a:xfrm>
            <a:off x="465120" y="101520"/>
            <a:ext cx="8534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و فجأة جاء طفل و رأى الثلاث شموع مطفأة</a:t>
            </a: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4000" spc="-1" strike="noStrike">
                <a:solidFill>
                  <a:srgbClr val="ffcc00"/>
                </a:solidFill>
                <a:latin typeface="Arial Black"/>
              </a:rPr>
              <a:t>ما يعنى هذا؟ يجي أن تظلوا مشتعلين و تحترقوا حتى النهاية</a:t>
            </a:r>
            <a:r>
              <a:rPr b="1" lang="en-GB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6567480" y="2340000"/>
            <a:ext cx="243216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2160720" y="360360"/>
            <a:ext cx="414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بدأت الشمعة الرايعة فى الحديث</a:t>
            </a: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3200" spc="-1" strike="noStrike">
                <a:solidFill>
                  <a:srgbClr val="ff6600"/>
                </a:solidFill>
                <a:latin typeface="Arial"/>
              </a:rPr>
              <a:t>لا تخف يا ابنى طالما أنا مشتعلة حتى الان فيمكننا أن نشعل باقى الشمو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6659640" y="2340000"/>
            <a:ext cx="2340000" cy="126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380960" y="3200400"/>
            <a:ext cx="5278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 u="sng">
                <a:solidFill>
                  <a:srgbClr val="ff0000"/>
                </a:solidFill>
                <a:uFillTx/>
                <a:latin typeface="Arial"/>
              </a:rPr>
              <a:t>وقفة للتأم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نطفئ شعلة السلام و الايمان و المحبة حتى فى هذا الحال لم نفقد كل شئ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ن شئ هام يظل بداخلن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و هذا يجب أن يظل فوق ال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900000" y="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 Black"/>
              </a:rPr>
              <a:t>فأخذ الطفل الشمعة الرابعة و هى شمعة الرجاء و أشعل الثلاثة شموع الاخر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5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6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7"/>
          <a:stretch/>
        </p:blipFill>
        <p:spPr>
          <a:xfrm>
            <a:off x="6550200" y="2340000"/>
            <a:ext cx="2449440" cy="126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8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9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9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9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6394320" y="360036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361800" y="17928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لتكن شمعة الامل موقدة دائما بداخلك فهى النور الذى يرشدنا فى الظلام</a:t>
            </a: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فطريق السعادة المحدد يجب أن يكون مغطى بالرجا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07480" y="595944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سلا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86080" y="5959440"/>
            <a:ext cx="8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400" spc="-1" strike="noStrike">
                <a:solidFill>
                  <a:srgbClr val="00b8ff"/>
                </a:solidFill>
                <a:latin typeface="Arial"/>
              </a:rPr>
              <a:t>الايم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277960" y="60008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الح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050600" y="592920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200" spc="-1" strike="noStrike">
                <a:solidFill>
                  <a:srgbClr val="008000"/>
                </a:solidFill>
                <a:latin typeface="Arial"/>
              </a:rPr>
              <a:t>الرج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7"/>
          <a:stretch/>
        </p:blipFill>
        <p:spPr>
          <a:xfrm>
            <a:off x="4729320" y="2340000"/>
            <a:ext cx="2339640" cy="12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8"/>
          <a:stretch/>
        </p:blipFill>
        <p:spPr>
          <a:xfrm>
            <a:off x="6534000" y="2340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75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75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2290680" y="3598920"/>
            <a:ext cx="2749680" cy="325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4500720" y="3598920"/>
            <a:ext cx="2749320" cy="32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4"/>
          <a:stretch/>
        </p:blipFill>
        <p:spPr>
          <a:xfrm>
            <a:off x="6394320" y="3598920"/>
            <a:ext cx="2749680" cy="3257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539640" y="428760"/>
            <a:ext cx="845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لا تدق السعادة بابنا كل يوم و لكن لكى تحصل عليها يجب أن تبحث عنها دون كلل و يكون لديك الشجاعة أن يكون بداخلك تلك السعاد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04680" y="594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ai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419640" y="59594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b8ff"/>
                </a:solidFill>
                <a:latin typeface="Arial"/>
              </a:rPr>
              <a:t>f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266080" y="6019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m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943680" y="597060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espé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0" descr=""/>
          <p:cNvPicPr/>
          <p:nvPr/>
        </p:nvPicPr>
        <p:blipFill>
          <a:blip r:embed="rId5"/>
          <a:stretch/>
        </p:blipFill>
        <p:spPr>
          <a:xfrm>
            <a:off x="22860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6"/>
          <a:stretch/>
        </p:blipFill>
        <p:spPr>
          <a:xfrm>
            <a:off x="2519280" y="234000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7"/>
          <a:stretch/>
        </p:blipFill>
        <p:spPr>
          <a:xfrm>
            <a:off x="4714920" y="2714760"/>
            <a:ext cx="2340000" cy="126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"/>
          <p:cNvPicPr/>
          <p:nvPr/>
        </p:nvPicPr>
        <p:blipFill>
          <a:blip r:embed="rId8"/>
          <a:stretch/>
        </p:blipFill>
        <p:spPr>
          <a:xfrm>
            <a:off x="6429240" y="2286000"/>
            <a:ext cx="246564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IR</dc:creator>
  <dc:description>07/10/1999, 11:08:01, João Henrique Carvalho
</dc:description>
  <dc:language>en-US</dc:language>
  <cp:lastModifiedBy>New</cp:lastModifiedBy>
  <dcterms:modified xsi:type="dcterms:W3CDTF">2016-04-12T08:14:17Z</dcterms:modified>
  <cp:revision>26</cp:revision>
  <dc:subject/>
  <dc:title>Esperança... o que seria de nós sem ela?</dc:title>
</cp:coreProperties>
</file>